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CA30-D9CA-47F5-8E90-B67AC333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nish Armada in formation heading up the channel towards stop 1, the Netherlands, to embark troops for the invasion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F5ED-4818-4F16-9D69-B0E58332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r English ships- white flag with cross and jack mixed among the Spanish fleet to attack and break up th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4C60-AF2D-42EF-9EDE-3F150425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ships were also sent into the tightly packed Spanish fl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B24B-3BFB-4752-B70E-6D866128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ic, unknown waters, and poor weather dispatched most of the rest of the Spanish fleet… breaking Spain’s naval supremacy and monopoly on the wealth of the Ameri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0362-4DEF-48EC-B66D-749332AD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AC8-48C4-46AC-B334-ABC7C164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881-FA41-4129-A66E-EF7C7FD2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EF5-A574-415A-9B49-FCAA2899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349-4B94-4DA4-AF41-CB07CC2B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876-D870-4BC5-B30B-0778E18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36A-056F-40AB-92BD-2B635AFF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F6F-F383-4F98-827E-E1B98DF7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F8C-936A-4AC9-AEB1-5FB0E09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722-E19B-428E-AC31-D3E39CC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438-30B6-4C0E-8395-DEF531AC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957-E4CC-49C8-9162-FD7D545B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D71-79AD-4095-8DC1-A9D6DEE7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3E9B-8A1C-4F02-A8FF-191B87141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nnel Setting Instructions for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ResponseCard R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ess and release the "GO" butt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le the light is flashing red and green, enter the 2 digit channel code (i.e. channel 1 = 01, channel 21 = 21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hannel is 04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fter the second digit is entered, Press and release the "GO" butt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ss and release the "1/A" button.  The light should flash yellow to con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Native American civilizations was conquered by Spanish Conquistad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qu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types of Spanish Settlements was dedicated to spreading the Catholic Faith and serving the religious needs of Cathol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mie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b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groups had the highest social rank in the society of Spain’s empire in the New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at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ti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profitable resources was the most important cause for bringing African slaves to the Amer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pain had a 100 year head start in settling the Americas- what did other countries keep exploring for… that led to their later land claims in North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44197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west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al Di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Continent of Atlan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pinion, was Francis Drake who commanded 6 voyages against the Spanish more of a pirate who worked for himself, or more of a privateer, who worked for his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id Francis Drake sail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Phillip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Elizabet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gin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King of Spain, and the Holy Roman Emperor, Phillip II was the official protector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Antiqu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holic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Phillip II ask of Elizabeth I in exchange for peac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urn over Francis Dr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pay Spain for its losses to English Priva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oin their kingdoms through Marri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ditional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official religion of England under Elizabeth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Columbus Day to Thanksgiving Day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Spanish, Portuguese, French, Dutch, Swedish, and English competed for the wealth of the New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pfrankmann\AppData\Local\Microsoft\Windows\Temporary Internet Files\Content.IE5\CXS7IJP9\MP900446412[1].jpg"/>
          <p:cNvPicPr/>
          <p:nvPr/>
        </p:nvPicPr>
        <p:blipFill>
          <a:blip r:embed="rId1"/>
          <a:stretch/>
        </p:blipFill>
        <p:spPr>
          <a:xfrm>
            <a:off x="6629400" y="3733920"/>
            <a:ext cx="206532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pfrankmann\AppData\Local\Microsoft\Windows\Temporary Internet Files\Content.IE5\8E7BHOG9\MC900150050[1].wmf"/>
          <p:cNvPicPr/>
          <p:nvPr/>
        </p:nvPicPr>
        <p:blipFill>
          <a:blip r:embed="rId2"/>
          <a:stretch/>
        </p:blipFill>
        <p:spPr>
          <a:xfrm>
            <a:off x="380880" y="4419720"/>
            <a:ext cx="2909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as England supporting a Protestant rebellion against Spa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EF6BD18D-F63B-70A1-55A4C190A770AC91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8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EF6D57FE-DD15-C10C-47AAF3FCCE4CD750"/>
          <p:cNvPicPr/>
          <p:nvPr/>
        </p:nvPicPr>
        <p:blipFill>
          <a:blip r:embed="rId1"/>
          <a:stretch/>
        </p:blipFill>
        <p:spPr>
          <a:xfrm>
            <a:off x="304920" y="517680"/>
            <a:ext cx="83818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EF6D57DF-AEBA-54FD-D65A541F5B38FA81"/>
          <p:cNvPicPr/>
          <p:nvPr/>
        </p:nvPicPr>
        <p:blipFill>
          <a:blip r:embed="rId1"/>
          <a:stretch/>
        </p:blipFill>
        <p:spPr>
          <a:xfrm>
            <a:off x="457200" y="62064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EF6D57EF-B63D-7572-D1EE79524675DEC9"/>
          <p:cNvPicPr/>
          <p:nvPr/>
        </p:nvPicPr>
        <p:blipFill>
          <a:blip r:embed="rId1"/>
          <a:stretch/>
        </p:blipFill>
        <p:spPr>
          <a:xfrm>
            <a:off x="228600" y="465120"/>
            <a:ext cx="853452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1607…founded 9 years after the defeat of the Arm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www1.nasa.gov/images/content/174343main_jamestown-settlement-1-516.jpg"/>
          <p:cNvPicPr/>
          <p:nvPr/>
        </p:nvPicPr>
        <p:blipFill>
          <a:blip r:embed="rId1"/>
          <a:stretch/>
        </p:blipFill>
        <p:spPr>
          <a:xfrm>
            <a:off x="1523880" y="2438280"/>
            <a:ext cx="608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name of the first English settlement- set up in 1585-1587 as a base of operations for the privateer Sir Walter Ral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This colony was “lost” after being left for 2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TPChart"/>
          <p:cNvGraphicFramePr/>
          <p:nvPr/>
        </p:nvGraphicFramePr>
        <p:xfrm>
          <a:off x="4952880" y="2590920"/>
          <a:ext cx="3581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90920"/>
                    <a:ext cx="3581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1148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Augu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at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n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funded the Jamestown colony- for prof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Jam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ginia Company of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Drake and Sir Walter Rale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n America was Jamestown Locate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dson River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found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ader of Jamestown saved it in the first year by requiring the settlers to work for foo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148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or Ratle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Ro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proud of my organized binder and note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ook the most lives of the first several crews of settlers at Jamestow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John Smith trade for with Chief Powhatan to save the colon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rop was first planted by John Rolfe that finally made the colony prof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19 Jamestown convened its first colonial assembly. What was this calle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nia Sta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a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20 African slaves were sold to planters at Jamestown in 1619 by wh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1148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Priva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n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East Ind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ney’s Pocahontas is a mostly accurate telling of the story of Jamest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lesson of the Pocahontas st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rench Settlement in the Amer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Chri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n the Americas did the Dutch establish a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n the Americas did the Swedish establish a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proud of my Americas ma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vity proved most profitable for the French and Dutch sett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ber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 the Pilgrims leave Eng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fferent about the group of Pilgrims compared to the first group of settlers in Jamest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similar about the stories of the Plymouth and Jamestown Sett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630’s, where would you have best fit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cu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mited the power of the English monarchy and guaranteed some individual rights to English su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 of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ill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a C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d lived in the Americas in the 1600’s, what type of person would you have preferred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el better about tomorrow’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r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ready for this assess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accidentally discovered the Americas while seeking a direct water trade route to Ch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o Da G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go Vespu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dinand Mage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originally came from the Old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originally came from the New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n the New World did the Portuguese have a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55:33Z</dcterms:created>
  <dc:creator>pfrankmann</dc:creator>
  <dc:description/>
  <dc:language>en-US</dc:language>
  <cp:lastModifiedBy>Windows User</cp:lastModifiedBy>
  <dcterms:modified xsi:type="dcterms:W3CDTF">2011-09-28T11:53:46Z</dcterms:modified>
  <cp:revision>50</cp:revision>
  <dc:subject/>
  <dc:title>Slide 1</dc:title>
</cp:coreProperties>
</file>